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E444-4557-4A01-8D94-241B17AF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F0BA-0AE3-4059-9A79-ADDB34512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7979-D37A-4180-8792-6AFE8F6C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E95-FD2B-45FC-A594-992E2A52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334B-6F0A-4E4A-8571-A7AB9A65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161-399E-4386-9F3C-069349CAD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C1B3-AB71-4370-85CF-352493786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599-3C2A-497F-A6F3-28B012DE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F9AA-5E30-413B-9B55-AD3E4BE75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43C6-E9E3-40C5-A071-134ABBEB0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C205-1A8D-4FA7-AAC8-111816FA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70A-5006-48B7-AE80-FFE68FEF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6BC5-C151-41A4-8B81-953A15EE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6574-F8ED-4D4F-A617-FB2F090AC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1F5-D043-4D71-ACEE-A30069E72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115E-1E6A-4C04-94F3-CFB18334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3CFD-BDEF-4414-93B1-5D724BB0E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1412-E971-424C-A56C-22B4EE92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27FB-3C87-4D1C-BA06-35CBCCF2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7BA0-5282-400D-A4C2-B8A82AC3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981E-CC35-4F69-873B-BDA75665B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92CD-CE96-4C14-9740-FC6A5DB52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8E26-85DF-45D3-95B9-F46C253C8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7FD6-1CA3-474B-B19A-D6A62491C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4BF3-C3CF-4BBA-829B-BF115194C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6D56-D48D-4134-9D8F-53C0DC847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7301-7CDF-444C-B1BA-FE2CE609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A653-8F56-4130-9611-D458DA44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773-D623-489C-B587-D1E678ECB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CE81-C1CF-4443-8DBB-DAA43D2B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1657-07DD-4C17-9432-255889423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5B73-D30D-405F-9868-14386765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28C3-3FDC-4876-8E32-3673B9EFA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FBB0-6915-450C-BF29-03F24F9C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AEBD-F1E5-42CB-A660-CFCFBF05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812-28E0-4592-9F1A-25A451418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7501-2D3A-41E3-BFBD-0309C3FF2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D1C-F3AD-421A-8CCD-CDB6A8B8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D1C-688D-4582-A8E5-5837D36B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386-A9FA-4AE4-842D-6357D470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BBA-BC9C-4C2F-8381-B1E2994B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E45-EA5B-4CE6-B953-79199339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D5D-8880-491B-A6EE-601E41C1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D3D-6FFD-4820-B5C7-AD17A8B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46A-BD09-4A52-8D70-9973D05F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020-863C-4A7D-8521-9A3CB2BE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F97-9C81-427B-8D1E-D82FB994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3A3-D9FB-4996-A97D-6AD8D0A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C37-1986-493C-8B4F-F7CA24E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5474-D907-4775-92E0-24C0F7B1B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1916280"/>
            <a:ext cx="42480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00cc"/>
                </a:solidFill>
                <a:latin typeface="Arial"/>
              </a:rPr>
              <a:t>大學面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280" y="3933720"/>
            <a:ext cx="73054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如何在大學面試脫穎而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B7AE-92FC-4D4A-8C2F-ADAE2A0E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常問問題（舉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1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為何不繼續選擇離家較近（或較遠）的大學，而想來本校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2.</a:t>
            </a:r>
            <a:r>
              <a:rPr b="1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為何要錄取你？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舉出錄取你的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3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最近讀過哪本專業的書或文章？有什麼心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4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有無打工或工作經驗？學到哪些東西？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為何離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5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以後想進哪種行業服務？為什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6.</a:t>
            </a:r>
            <a:r>
              <a:rPr b="1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為何報考本校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7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學測最高分是哪科？為什麼？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最不好的科目是什麼？為什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8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未來考證照的可能？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為什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9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對於採認大陸學歷的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20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目前關於報考本系的專業領域知識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A17D-E4CC-402C-BEE3-8D36A3184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3040" y="307800"/>
            <a:ext cx="8059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因此，面試前心理建設</a:t>
            </a:r>
            <a:r>
              <a:rPr b="1" i="1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實力就是你的最大本錢，誠實是最上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表露你的真實想法，誠懇的態度，千萬不要造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你就是自己的推銷員，謙虛是美德，但要果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面試時間有限，要「積極」、「主動」、「勇於表達」，充滿強烈的企圖心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3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盡人事，聽天命；得之我幸，不得我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任何考試都有運氣的成分，只要盡力而為，就能無愧於心，更何況有時候塞翁失馬，焉知非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D4A-5568-4186-8975-4BC93B2D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00cc"/>
                </a:solidFill>
                <a:latin typeface="DFKai-SB"/>
                <a:ea typeface="DFKai-SB"/>
              </a:rPr>
              <a:t>注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新細明體"/>
              </a:rPr>
              <a:t>溫故可以知新～更瞭解自己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新細明體"/>
              </a:rPr>
              <a:t>前後一致～誠實、誠懇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新細明體"/>
              </a:rPr>
              <a:t>資料熟悉～有備而來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新細明體"/>
              </a:rPr>
              <a:t>自尊尊人～敬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頁尾版面配置區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25FF-D841-4276-9DE9-54BF27023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33336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Times New Roman"/>
                <a:ea typeface="DFKai-SB"/>
              </a:rPr>
              <a:t>面試前之準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1371600"/>
            <a:ext cx="822960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(</a:t>
            </a:r>
            <a:r>
              <a:rPr b="0" lang="zh-TW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、</a:t>
            </a:r>
            <a:r>
              <a:rPr b="1" lang="zh-TW" sz="3200" spc="-1" strike="noStrike" u="sng">
                <a:solidFill>
                  <a:srgbClr val="003366"/>
                </a:solidFill>
                <a:uFillTx/>
                <a:latin typeface="Times New Roman"/>
                <a:ea typeface="DFKai-SB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強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不佳記錄之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DFKai-SB"/>
              </a:rPr>
              <a:t>正面化補充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個人特質，優良表現及特殊專長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成品或研究報告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個人的</a:t>
            </a:r>
            <a:r>
              <a:rPr b="0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『</a:t>
            </a:r>
            <a:r>
              <a:rPr b="0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潛能</a:t>
            </a:r>
            <a:r>
              <a:rPr b="0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』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（如何符合校系的發展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6576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A61A-B3A9-4C61-A6A7-969F6549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Arial"/>
                <a:ea typeface="DFKai-SB"/>
              </a:rPr>
              <a:t>小叮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cc"/>
                </a:solidFill>
                <a:latin typeface="DFKai-SB"/>
                <a:ea typeface="DFKai-SB"/>
              </a:rPr>
              <a:t>‧</a:t>
            </a:r>
            <a:r>
              <a:rPr b="0" i="1" lang="zh-TW" sz="3200" spc="-1" strike="noStrike">
                <a:solidFill>
                  <a:srgbClr val="cc00cc"/>
                </a:solidFill>
                <a:latin typeface="DFKai-SB"/>
                <a:ea typeface="DFKai-SB"/>
              </a:rPr>
              <a:t>認識自己要甄試的「科系特色」及教學、研究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0" i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瞭解自己「為什麼」要進入這個學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cc"/>
                </a:solidFill>
                <a:latin typeface="DFKai-SB"/>
                <a:ea typeface="DFKai-SB"/>
              </a:rPr>
              <a:t>‧</a:t>
            </a:r>
            <a:r>
              <a:rPr b="0" i="1" lang="zh-TW" sz="3200" spc="-1" strike="noStrike">
                <a:solidFill>
                  <a:srgbClr val="cc00cc"/>
                </a:solidFill>
                <a:latin typeface="DFKai-SB"/>
                <a:ea typeface="DFKai-SB"/>
              </a:rPr>
              <a:t>瞭解這個學系「為什麼」要選擇自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0" i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將來如果有機會進入此科系，「讀書計劃」應有什麼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803-0780-4C7A-B60C-AFB320843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ff6600"/>
              </a:solidFill>
              <a:latin typeface="Arial"/>
              <a:ea typeface="DFKai-SB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面試流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FKai-SB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各校、各系有其傳統可能「大同」之外，仍有「小異」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面試自我介紹整體而言，個人僅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FKai-SB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FKai-SB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分鐘（中、英文版本時間長度約略相同，但均宜多練習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「面試」比「口試」，多了</a:t>
            </a: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DFKai-SB"/>
              </a:rPr>
              <a:t>神情、精神、態度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和</a:t>
            </a: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DFKai-SB"/>
              </a:rPr>
              <a:t>整體互動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觀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頁尾版面配置區 2"/>
          <p:cNvSpPr/>
          <p:nvPr/>
        </p:nvSpPr>
        <p:spPr>
          <a:xfrm>
            <a:off x="4140360" y="6299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AE74-0DE2-4981-93F4-856D8F58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Times New Roman"/>
                <a:ea typeface="DFKai-SB"/>
              </a:rPr>
              <a:t>面試原則</a:t>
            </a:r>
            <a:r>
              <a:rPr b="1" lang="zh-TW" sz="3600" spc="-1" strike="noStrike">
                <a:solidFill>
                  <a:srgbClr val="003366"/>
                </a:solidFill>
                <a:latin typeface="Times New Roman"/>
                <a:ea typeface="DFKai-SB"/>
              </a:rPr>
              <a:t>─面試前注意原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557360"/>
            <a:ext cx="777744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一、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詳讀通知單</a:t>
            </a: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Verdana"/>
                <a:ea typeface="DFKai-SB"/>
              </a:rPr>
              <a:t>清楚面試地點，並留意到達面試地點的交通狀況及所需時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二、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注意服裝儀容</a:t>
            </a: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Verdana"/>
                <a:ea typeface="DFKai-SB"/>
              </a:rPr>
              <a:t>事先備好面試時盡量穿正式服裝（西裝打領帶），儀容要展現給人容光煥發，精神奕奕的感覺，千萬不要裝扮成無精打采的模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三、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針對面試充分準備</a:t>
            </a: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例如瀏覽相關知識、設想提出的問題、徵詢資源人士的意見、嘗試作答、模擬演練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四、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放鬆心情</a:t>
            </a: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Verdana"/>
                <a:ea typeface="DFKai-SB"/>
              </a:rPr>
              <a:t>面試前一天放鬆心情，充足睡眠，以保持充沛的體力，以便應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頁尾版面配置區 4"/>
          <p:cNvSpPr/>
          <p:nvPr/>
        </p:nvSpPr>
        <p:spPr>
          <a:xfrm>
            <a:off x="3276720" y="62704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6425-CF7D-4CC3-ADBA-9FB90E4B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1" lang="zh-TW" sz="4400" spc="-1" strike="noStrike">
                <a:solidFill>
                  <a:srgbClr val="003366"/>
                </a:solidFill>
                <a:latin typeface="DFKai-SB"/>
                <a:ea typeface="DFKai-SB"/>
              </a:rPr>
              <a:t>面試原則</a:t>
            </a:r>
            <a:r>
              <a:rPr b="1" lang="zh-TW" sz="3600" spc="-1" strike="noStrike">
                <a:solidFill>
                  <a:srgbClr val="003366"/>
                </a:solidFill>
                <a:latin typeface="DFKai-SB"/>
                <a:ea typeface="DFKai-SB"/>
              </a:rPr>
              <a:t>─面試當天注意事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一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提早準備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提早出門，切忌遲到，出發前</a:t>
            </a:r>
            <a:r>
              <a:rPr b="0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再確認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應攜帶的證件及文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二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注意禮儀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進入面試室前，應先敲門；進入面試室後應打招呼，得到准許後才可坐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三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面談態度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保持微笑、展現自信，謙虛及誠意，交談時注意</a:t>
            </a:r>
            <a:r>
              <a:rPr b="0" lang="en-US" sz="2400" spc="-1" strike="noStrike">
                <a:solidFill>
                  <a:srgbClr val="003366"/>
                </a:solidFill>
                <a:latin typeface="DFKai-SB"/>
                <a:ea typeface="DFKai-SB"/>
              </a:rPr>
              <a:t>eye-contact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，坐時要端正，不要兩手交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DFKai-SB"/>
                <a:ea typeface="DFKai-SB"/>
              </a:rPr>
              <a:t>保持微笑，不僅可以激發溫馨，更可以化解緊張，簡單又有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DFKai-SB"/>
                <a:ea typeface="DFKai-SB"/>
              </a:rPr>
              <a:t>眼神直視對方，表現出真誠、關注，心神平靜、有安全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四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誠實以對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不懂別裝懂，誠實回答，切勿吹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五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回答方式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口齒清晰，慢慢的講不急躁，言簡意賅；言之有物，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  <a:ea typeface="DFKai-SB"/>
              </a:rPr>
              <a:t>答案俱邏輯性，表現自己的獨特觀點，不盲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230-9B8F-4426-9C3D-D2CB33454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六、</a:t>
            </a:r>
            <a:r>
              <a:rPr b="1" lang="zh-TW" sz="26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與教授之互動</a:t>
            </a:r>
            <a:r>
              <a:rPr b="1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1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勿打斷教授發言，更忌與教授爭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2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表現出對該系的熱忱，適時表達自己是最適合進入該系，表現真實的自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3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對於聽不清楚的訊息可以主動、客氣地請主試者再說一次，以表示自己的專心聆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4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可以要求提示，其實很多老師樂於引導學生思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5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對自己的資料要熟悉，以免問話時被挑剔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6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先聽清楚問題，想一下，再針對問題回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7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注意表達方式，善用肢體語言，可是動作別太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DFKai-SB"/>
                <a:ea typeface="DFKai-SB"/>
              </a:rPr>
              <a:t>面試原則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─面試當天注意事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F371-B5F4-4C2A-BBA2-EE578C5F5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面試情境中</a:t>
            </a:r>
            <a:r>
              <a:rPr b="1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◎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如果沒聽清楚問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「很抱歉我沒聽清楚問題，是否可以麻煩您再講一遍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◎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如果還是沒聽清楚問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「您是不是問</a:t>
            </a:r>
            <a:r>
              <a:rPr b="1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……</a:t>
            </a: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◎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如果真的沒辦法回答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「這問題我並不確切了解，但如果是</a:t>
            </a:r>
            <a:r>
              <a:rPr b="1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… </a:t>
            </a: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則</a:t>
            </a:r>
            <a:r>
              <a:rPr b="1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… </a:t>
            </a: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「很抱歉這問題我並不了解，是否可以放棄這題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不少大學設有面試來甄選學生，參考同學的綜合質素是否合乎課程所需。藉著面試了解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對該校、系的興趣與就讀動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思考能力與組織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臨場反應與應變表達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人格特質與價值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專業知識與特殊才能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臨場發揮四秘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回答問題時，先歸納重點，後陳述事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遇到不熟悉的題目時，盡力發揮、虛心受教，千萬不要只答是或否，可提出自己的想法，使面試官留下虛心受教的好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保持微笑迎人，態度誠懇有禮，拉近與面試官的距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因應學系性質，選擇合適衣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1A94-D402-4F57-828B-F37762360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68360" y="434880"/>
            <a:ext cx="806616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流</a:t>
            </a:r>
            <a:r>
              <a:rPr b="1" lang="zh-TW" sz="3200" spc="-1" strike="noStrike" u="sng">
                <a:solidFill>
                  <a:srgbClr val="003366"/>
                </a:solidFill>
                <a:uFillTx/>
                <a:latin typeface="Times New Roman"/>
                <a:ea typeface="DFKai-SB"/>
              </a:rPr>
              <a:t>程準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面試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(1)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、</a:t>
            </a:r>
            <a:r>
              <a:rPr b="1" lang="zh-TW" sz="2800" spc="-1" strike="noStrike" u="sng">
                <a:solidFill>
                  <a:srgbClr val="ff6600"/>
                </a:solidFill>
                <a:uFillTx/>
                <a:latin typeface="DFKai-SB"/>
                <a:ea typeface="DFKai-SB"/>
              </a:rPr>
              <a:t>個別一次面試：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由一位或數位面試委員對一位考生，進行十至十五分鐘面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Verdana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Verdana"/>
                <a:ea typeface="DFKai-SB"/>
              </a:rPr>
              <a:t>一般知識或專業知識之問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Verdana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Verdana"/>
                <a:ea typeface="DFKai-SB"/>
              </a:rPr>
              <a:t>閒話家常：觀察人格特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http://cschool.kyvs.ks.edu.tw/Learn/InterviewPic/Interv1.gif"/>
          <p:cNvPicPr/>
          <p:nvPr/>
        </p:nvPicPr>
        <p:blipFill>
          <a:blip r:embed="rId1"/>
          <a:stretch/>
        </p:blipFill>
        <p:spPr>
          <a:xfrm>
            <a:off x="2556000" y="3213000"/>
            <a:ext cx="1506240" cy="180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cschool.kyvs.ks.edu.tw/Learn/InterviewPic/Interv2.gif"/>
          <p:cNvPicPr/>
          <p:nvPr/>
        </p:nvPicPr>
        <p:blipFill>
          <a:blip r:embed="rId2"/>
          <a:stretch/>
        </p:blipFill>
        <p:spPr>
          <a:xfrm>
            <a:off x="5003640" y="3933720"/>
            <a:ext cx="3353040" cy="1817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435560" y="3237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AEE8-6A7D-4DBA-B8D1-A469247F8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1540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(2)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、</a:t>
            </a:r>
            <a:r>
              <a:rPr b="1" lang="zh-TW" sz="3200" spc="-1" strike="noStrike" u="sng">
                <a:solidFill>
                  <a:srgbClr val="ff6600"/>
                </a:solidFill>
                <a:uFillTx/>
                <a:latin typeface="DFKai-SB"/>
                <a:ea typeface="DFKai-SB"/>
              </a:rPr>
              <a:t>團體一次面試：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由二位以上之面試委員對一群考生，以三十至四十分鐘之口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採取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DFKai-SB"/>
                <a:ea typeface="DFKai-SB"/>
              </a:rPr>
              <a:t>個別詢問、團體討論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觀察、閱讀資料後意見發表</a:t>
            </a:r>
            <a:r>
              <a:rPr b="0" lang="en-US" sz="2400" spc="-1" strike="noStrike">
                <a:solidFill>
                  <a:srgbClr val="009999"/>
                </a:solidFill>
                <a:latin typeface="DFKai-SB"/>
                <a:ea typeface="DFKai-SB"/>
              </a:rPr>
              <a:t>…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等方式評量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觀察是否有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ea typeface="DFKai-SB"/>
              </a:rPr>
              <a:t>獨立思維、想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cschool.kyvs.ks.edu.tw/Learn/InterviewPic/Interv3.gif"/>
          <p:cNvPicPr/>
          <p:nvPr/>
        </p:nvPicPr>
        <p:blipFill>
          <a:blip r:embed="rId1"/>
          <a:stretch/>
        </p:blipFill>
        <p:spPr>
          <a:xfrm>
            <a:off x="2124000" y="2492280"/>
            <a:ext cx="590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頁尾版面配置區 4"/>
          <p:cNvSpPr/>
          <p:nvPr/>
        </p:nvSpPr>
        <p:spPr>
          <a:xfrm>
            <a:off x="3995640" y="6199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E3AE-A450-4AD8-8461-76C9FC3C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(3)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、</a:t>
            </a:r>
            <a:r>
              <a:rPr b="1" lang="zh-TW" sz="3200" spc="-1" strike="noStrike" u="sng">
                <a:solidFill>
                  <a:srgbClr val="ff6600"/>
                </a:solidFill>
                <a:uFillTx/>
                <a:latin typeface="DFKai-SB"/>
                <a:ea typeface="DFKai-SB"/>
              </a:rPr>
              <a:t>個人二次或多次面試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：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由個別或多數之面試委員對一位考生，以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  <a:ea typeface="DFKai-SB"/>
              </a:rPr>
              <a:t>10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至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  <a:ea typeface="DFKai-SB"/>
              </a:rPr>
              <a:t>20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分鐘之口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採口試、實驗、術科及小論文</a:t>
            </a:r>
            <a:r>
              <a:rPr b="0" lang="en-US" sz="2400" spc="-1" strike="noStrike">
                <a:solidFill>
                  <a:srgbClr val="009999"/>
                </a:solidFill>
                <a:latin typeface="DFKai-SB"/>
                <a:ea typeface="DFKai-SB"/>
              </a:rPr>
              <a:t>…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等方式配合評量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高難度問題：測試應變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ttp://cschool.kyvs.ks.edu.tw/Learn/InterviewPic/Interv4.gif"/>
          <p:cNvPicPr/>
          <p:nvPr/>
        </p:nvPicPr>
        <p:blipFill>
          <a:blip r:embed="rId1"/>
          <a:stretch/>
        </p:blipFill>
        <p:spPr>
          <a:xfrm>
            <a:off x="1116000" y="2708280"/>
            <a:ext cx="3097080" cy="240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cschool.kyvs.ks.edu.tw/Learn/InterviewPic/Interv5.gif"/>
          <p:cNvPicPr/>
          <p:nvPr/>
        </p:nvPicPr>
        <p:blipFill>
          <a:blip r:embed="rId2"/>
          <a:stretch/>
        </p:blipFill>
        <p:spPr>
          <a:xfrm>
            <a:off x="5148360" y="2708280"/>
            <a:ext cx="3168720" cy="2428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413600" y="32756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4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B68D-DA0C-46A1-833B-84A51A72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19620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(4)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、</a:t>
            </a:r>
            <a:r>
              <a:rPr b="1" lang="zh-TW" sz="3200" spc="-1" strike="noStrike" u="sng">
                <a:solidFill>
                  <a:srgbClr val="ff6600"/>
                </a:solidFill>
                <a:uFillTx/>
                <a:latin typeface="DFKai-SB"/>
                <a:ea typeface="DFKai-SB"/>
              </a:rPr>
              <a:t>團體二次或多次面試：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由多位面試委員對一群考生，為一次各以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  <a:ea typeface="DFKai-SB"/>
              </a:rPr>
              <a:t>20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至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  <a:ea typeface="DFKai-SB"/>
              </a:rPr>
              <a:t>30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分鐘之口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採個別說明、團體討論或看電視後發表意見等方式評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→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ea typeface="DFKai-SB"/>
              </a:rPr>
              <a:t>多人一起口試：</a:t>
            </a: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觀察是否有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ea typeface="DFKai-SB"/>
              </a:rPr>
              <a:t>獨立想法？團隊精神？是否尊重別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ttp://cschool.kyvs.ks.edu.tw/Learn/InterviewPic/Interv6.gif"/>
          <p:cNvPicPr/>
          <p:nvPr/>
        </p:nvPicPr>
        <p:blipFill>
          <a:blip r:embed="rId1"/>
          <a:stretch/>
        </p:blipFill>
        <p:spPr>
          <a:xfrm>
            <a:off x="2411280" y="2205000"/>
            <a:ext cx="424836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澳門大學面試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別面試，一位考生面對三位面試工作人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陳述選擇本校及本系的理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說說你對本系的瞭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你如何規劃未來的大學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說說你的人生目標，打算如何去達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4400" spc="-1" strike="noStrike">
                <a:solidFill>
                  <a:srgbClr val="000000"/>
                </a:solidFill>
                <a:latin typeface="Arial"/>
              </a:rPr>
              <a:t>澳門大學推薦生面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三個面試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除中文及中文法律外，其他都全部要用英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自我簡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選擇該科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與本科有關係的題目，例如一國兩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通識題目，例如成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理工面試的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約一小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八個人一起面試，面試官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考官發問，一起討論，由一人代表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考官出題，各自表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T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面試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分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四人一組，三位面試人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 point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，根據與澳門旅遊業有關資料提出問題，四人作答，一人總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各自表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鏡湖護理學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個老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中文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英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個別面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考試以思考題為主，主要是觀察考生的態度、想法及成熟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附：筆試只考中文、英文及思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其中一些著重創意或個人價值觀的科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如設計、旅遊、教育及社工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尤其看重面試的表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由於每個課程的面試內容都不一樣，可能是時事新知、個人興趣、個案分析等，同學都不可能一一擬定標準答案，所以就要依靠平日的準備和臨場的發揮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頁尾版面配置區 2"/>
          <p:cNvSpPr/>
          <p:nvPr/>
        </p:nvSpPr>
        <p:spPr>
          <a:xfrm>
            <a:off x="4140360" y="62704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06E4-7E02-46A6-80B0-2B868D50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42920" y="1844640"/>
            <a:ext cx="74296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一般性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專業性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社會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DFKai-SB"/>
              </a:rPr>
              <a:t>/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時事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常識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思考性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即席演講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404640"/>
            <a:ext cx="82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請思考，面試可能考什麼問題？</a:t>
            </a:r>
            <a:br>
              <a:rPr sz="4400"/>
            </a:b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（請參考前述提及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常問的問題～舉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9393-D944-4F49-B7FA-37622E78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34760" y="333360"/>
            <a:ext cx="79405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、面試題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一般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自傳、讀書計畫等個人資料上之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考生志向、價值觀、特殊能力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對推甄校系特色之認知、未來生涯規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沒有正確答案，只有適當答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專業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考生的專業知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考生應用知識解決問題的能力、臨場及應變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可由考古題、該系期刊、基礎課本來猜測可能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3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社會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考生的國際觀、世界觀、是否關心社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可多看報紙、雜誌，瞭解各類社會經濟問題、國際情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思考問題起源，分析改策優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8C2B-B470-4D2E-BBB8-8E89693C4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96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、面試題型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常識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瞭解考生的知識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平時應多閱讀，考前可多看報紙文學副刊版、科學版、深度報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5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思考性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了解考生思考模式是否靈活、具創造力、邏輯思考及判斷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有賴平時多閱讀、多思考、多批判，不要人云亦云，要勇於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6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即席演講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F7C-2CAE-4C8C-B12D-0CAE3B3AD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因此，面試前的準備工作</a:t>
            </a:r>
            <a:r>
              <a:rPr b="1" i="1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55640" y="1844640"/>
            <a:ext cx="59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資料蒐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多關心時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加強自我的認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準備個人作品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練習個人表達能力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B3CA-9DBA-40CD-94EF-6CE599153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907560"/>
            <a:ext cx="820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學校簡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1)</a:t>
            </a:r>
            <a:r>
              <a:rPr b="1" lang="zh-TW" sz="2800" spc="-1" strike="noStrike">
                <a:solidFill>
                  <a:srgbClr val="ff0000"/>
                </a:solidFill>
                <a:latin typeface="DFKai-SB"/>
                <a:ea typeface="DFKai-SB"/>
              </a:rPr>
              <a:t>校系簡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大學學系之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校史簡介、學校特色、課程大綱、師資陣容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可對這所大學、這個學系有初步的認識，建立校系認同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2)</a:t>
            </a:r>
            <a:r>
              <a:rPr b="1" lang="zh-TW" sz="2800" spc="-1" strike="noStrike">
                <a:solidFill>
                  <a:srgbClr val="ff0000"/>
                </a:solidFill>
                <a:latin typeface="DFKai-SB"/>
                <a:ea typeface="DFKai-SB"/>
              </a:rPr>
              <a:t>課程大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了解各系開設課程內容、書目、任課教師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可以瞭解這個科系在學什麼，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與其他大學相同科系比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3)</a:t>
            </a:r>
            <a:r>
              <a:rPr b="1" lang="zh-TW" sz="2800" spc="-1" strike="noStrike">
                <a:solidFill>
                  <a:srgbClr val="ff0000"/>
                </a:solidFill>
                <a:latin typeface="DFKai-SB"/>
                <a:ea typeface="DFKai-SB"/>
              </a:rPr>
              <a:t>學術期刊、系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了解該系目前重要的研究主題，主流教授的研究、專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4)</a:t>
            </a:r>
            <a:r>
              <a:rPr b="1" lang="zh-TW" sz="2800" spc="-1" strike="noStrike">
                <a:solidFill>
                  <a:srgbClr val="ff0000"/>
                </a:solidFill>
                <a:latin typeface="DFKai-SB"/>
                <a:ea typeface="DFKai-SB"/>
              </a:rPr>
              <a:t>基礎課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通常書名為「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概論」、「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學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了解該學術領域的基本概念，可重點閱讀，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了解大綱即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73080" y="18864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、資料蒐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頁尾版面配置區 4"/>
          <p:cNvSpPr/>
          <p:nvPr/>
        </p:nvSpPr>
        <p:spPr>
          <a:xfrm>
            <a:off x="349236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D607-BF4A-4176-AB27-6A0723721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親自到該系或電話與該系連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詢問學長、學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求助親朋好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請教相關領域的權威人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圖書館、輔導室、網路、大學博覽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900000" y="476280"/>
            <a:ext cx="7488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DFKai-SB"/>
                <a:ea typeface="DFKai-SB"/>
              </a:rPr>
              <a:t>何處蒐集資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4400" spc="-1" strike="noStrike">
                <a:solidFill>
                  <a:srgbClr val="ff0000"/>
                </a:solidFill>
                <a:latin typeface="Arial"/>
              </a:rPr>
              <a:t>你懂面試人員的心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面試，顧名思義就是面試人員與面試同學雙方，用語言來彼此交換意見。但和人溝通，不僅文字，身體語言更能反映出內心的真實感受。在面試中，若你能察言觀色，知道他們的身體語言在傳達些什麼訊息，然後靈活應對，才可深得他們的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1D1C-1557-4B04-9C95-70399FE13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結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DFKai-SB"/>
                <a:ea typeface="DFKai-SB"/>
              </a:rPr>
              <a:t>◎ </a:t>
            </a: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放輕鬆，推甄面試不可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應抱著「我之我幸，不得我命」的心態去應試，心情放鬆，考上機率就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◎ </a:t>
            </a: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心理建設很重要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「只要是考試，就會有人上榜，也會有人落榜。」所以，建議同學要先做好心理建設，不要抱著非上不可的雄心壯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7380-0C0B-401C-8F58-7CF359A4D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DFKai-SB"/>
                <a:ea typeface="DFKai-SB"/>
              </a:rPr>
              <a:t>◎ </a:t>
            </a: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推銷自己別客氣，但要謙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把自己當成一個「超級推銷員」將自己的優點毫不保留的推銷出去，千萬不要客氣，將自己的入學機會拱手讓給別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◎ </a:t>
            </a: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別將面試當考試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將面試定位為「發揮自我潛能，揮灑自我的空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頁尾版面配置區 4"/>
          <p:cNvSpPr/>
          <p:nvPr/>
        </p:nvSpPr>
        <p:spPr>
          <a:xfrm>
            <a:off x="3124080" y="6032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大學甄選準備與面試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82DA-108B-49FC-A3C5-0BA583900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Arial"/>
              </a:rPr>
              <a:t>自信，自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1880" y="1744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你能變得更健康，更能在人際關係中做自己的主人，更有自信，更有能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更自在地表達自己的情緒，同時你也可能發現自己更受人喜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人生有些歷練，越早越好，越多越好～增強免疫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試前三部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一、擬定獨特的自述，給面試人員留下好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短短一兩分鐘的個人自我介紹，內容要儘量表現個人與眾不同的一面。如同學分享過往的活動經驗，切忌把活動如數家珍般說出，應指出當中的體會及感受，以及如何把這些體會結合日後的學習計劃當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4000" spc="-1" strike="noStrike">
                <a:solidFill>
                  <a:srgbClr val="6600ff"/>
                </a:solidFill>
                <a:latin typeface="Arial"/>
              </a:rPr>
              <a:t>好的介紹是成功的第一步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參考資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4400" spc="-1" strike="noStrike">
                <a:solidFill>
                  <a:srgbClr val="cc00cc"/>
                </a:solidFill>
                <a:latin typeface="Arial"/>
              </a:rPr>
              <a:t>為何選擇澳門大學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澳大在爭取國際學術卓越與認可的同時，亦致力開辦教育、科研和服務活動，著力提升人才質素，培育複合型、領袖型人才，以引領澳門的未來發展。澳大將透過獨特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四位一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模式，培養高質素的學生，亦根據社會發展需要，不斷發展新的跨學科研習計劃和單位，把澳大轉型為一所國際級大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cc"/>
                </a:solidFill>
                <a:latin typeface="Arial"/>
              </a:rPr>
              <a:t>選擇澳門大學重要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流的校園設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ld-class new camp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具影響力的研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mpactful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價值為本的學生事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alued-based Student Aff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優質的課程和教與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lity Curriculum, Teaching and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全球化與社區聯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lobalisation and Community Rel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cc"/>
                </a:solidFill>
                <a:latin typeface="Arial"/>
              </a:rPr>
              <a:t>選擇理工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紮根澳門、服務社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培養實用型人才、提供教學、科研及社會服務三大功能的綜合性實用型高等院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獨特的課程設計：護理、生物醫學技術、社會工作、體育運動、視覺藝術及音樂學位課程均獲政府專業認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cc"/>
                </a:solidFill>
                <a:latin typeface="Arial"/>
              </a:rPr>
              <a:t>選擇旅遊學院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供國際化旅遊及服務業課程的首選公立高等教育機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獨特性：獨立運作，專注提供旅遊及服務業管理方面的高等教育及專業培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融合性：將學術發展及專業培訓各自的優點和特質合而為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國際性：與外地相關院校及機構發展互利合作關係，積極推廣學術及國際交流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845-A1C5-4ECB-B7DC-018A43E9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謝謝聆聽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Q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  <a:ea typeface="DFKai-SB"/>
              </a:rPr>
              <a:t>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提問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  <a:ea typeface="DFKai-SB"/>
              </a:rPr>
              <a:t>和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討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2EF7-A3B4-459F-B1E9-4DB17FD99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43280" y="274680"/>
            <a:ext cx="324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DFKai-SB"/>
              </a:rPr>
              <a:t>吉祥如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WordArt 4" descr=""/>
          <p:cNvPicPr/>
          <p:nvPr/>
        </p:nvPicPr>
        <p:blipFill>
          <a:blip r:embed="rId1"/>
          <a:stretch/>
        </p:blipFill>
        <p:spPr>
          <a:xfrm>
            <a:off x="658800" y="4479840"/>
            <a:ext cx="8156520" cy="1596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http://www.theholidayspot.com/graduation/images/graduates.jpg"/>
          <p:cNvPicPr/>
          <p:nvPr/>
        </p:nvPicPr>
        <p:blipFill>
          <a:blip r:embed="rId2"/>
          <a:stretch/>
        </p:blipFill>
        <p:spPr>
          <a:xfrm>
            <a:off x="3348000" y="1268280"/>
            <a:ext cx="259236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講述報讀課程的原因時，不要空口說白話，表現真誠與自然，切忌過分吹噓，主動、積極地展現個人特色與優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謙虛未必是美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三、多關心時事、多留意相關行業狀況，讓面試官了解你的思維模式、分析及表達能力，展現個人的實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53BB-E3EA-4A94-AA46-15F35ACC2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Arial"/>
                <a:ea typeface="DFKai-SB"/>
              </a:rPr>
              <a:t>小叮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99"/>
                </a:solidFill>
                <a:latin typeface="Arial"/>
              </a:rPr>
              <a:t>知己知彼，百戰百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DFKai-SB"/>
              </a:rPr>
              <a:t>釐清自我與校系、環境的關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想想成長過程中，重要他人、求學生活、背景與生長環境對自己及自己選擇這個大學、這個科系有何影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選擇推甄或申請校系的理由與動機，即使考試分發亦會有同樣堅持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思索社會、家人、師長、學長、同學與自我對於自己所選擇校系的評鑑與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大學甄選準備與面試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D95-A929-4D6D-B9B5-BA65BCB8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Arial"/>
                <a:ea typeface="DFKai-SB"/>
              </a:rPr>
              <a:t>面試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如何準備面試？</a:t>
            </a:r>
            <a:br>
              <a:rPr sz="4000"/>
            </a:br>
            <a:r>
              <a:rPr b="0" i="1" lang="zh-TW" sz="4000" spc="-1" strike="noStrike">
                <a:solidFill>
                  <a:srgbClr val="333399"/>
                </a:solidFill>
                <a:latin typeface="DFKai-SB"/>
                <a:ea typeface="DFKai-SB"/>
              </a:rPr>
              <a:t>          </a:t>
            </a:r>
            <a:r>
              <a:rPr b="0" i="1" lang="zh-TW" sz="4000" spc="-1" strike="noStrike">
                <a:solidFill>
                  <a:srgbClr val="ff0066"/>
                </a:solidFill>
                <a:latin typeface="DFKai-SB"/>
                <a:ea typeface="DFKai-SB"/>
              </a:rPr>
              <a:t>面試技巧面面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1F7C-B245-41C3-85D4-95ECEF72C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04640"/>
            <a:ext cx="8540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DFKai-SB"/>
              </a:rPr>
              <a:t>面試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3"/>
          <p:cNvPicPr/>
          <p:nvPr/>
        </p:nvPicPr>
        <p:blipFill>
          <a:blip r:embed="rId1"/>
          <a:stretch/>
        </p:blipFill>
        <p:spPr>
          <a:xfrm>
            <a:off x="468360" y="1233360"/>
            <a:ext cx="8424720" cy="50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F2AC-DEBB-4905-A3BD-F2C86F0CF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常問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問題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舉例～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請自我介紹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-2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分鐘？</a:t>
            </a:r>
            <a:r>
              <a:rPr b="0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再根據所說內容追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中學做過什麼專題研究？</a:t>
            </a:r>
            <a:r>
              <a:rPr b="0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再根據所說內容追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未來學習、研究方向如何？</a:t>
            </a:r>
            <a:r>
              <a:rPr b="0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再根據所說內容追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最滿意的成就（作品）是什麼？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說一說努力的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中學社團經驗如何？它與未來大學階段有何關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有什麼優缺點？</a:t>
            </a:r>
            <a:r>
              <a:rPr b="0" lang="en-US" sz="2400" spc="-1" strike="noStrike">
                <a:solidFill>
                  <a:srgbClr val="009999"/>
                </a:solidFill>
                <a:latin typeface="DFKai-SB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再根據所說內容追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7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希望能在大學學習什麼能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最挫折的經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9.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你有同時報考其他學校嗎？如果我校與別校同時錄取你，該如何抉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0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你的英文程度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6:24:00Z</dcterms:created>
  <dc:creator>Albert Vu  (MEC MO)</dc:creator>
  <dc:description/>
  <dc:language>en-US</dc:language>
  <cp:lastModifiedBy> </cp:lastModifiedBy>
  <dcterms:modified xsi:type="dcterms:W3CDTF">2005-01-23T15:55:36Z</dcterms:modified>
  <cp:revision>38</cp:revision>
  <dc:subject/>
  <dc:title>如何在大學面試脫穎而出口</dc:title>
</cp:coreProperties>
</file>